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7542-0100-49CD-8B7A-79E007423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41F9-7CE5-4B8D-991B-AE99D33DD7E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385-9BA0-4324-9E5E-04D05EC3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D9B-3786-4FFD-9DA0-C2F3BB95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0FF-2970-4718-BBC5-BCE39366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3B0-EA06-4B03-9830-6D53C694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A80-2262-40C6-BBAD-1E718C21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CA2-CC26-47F0-A501-4A994651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922-7EAA-4949-962B-4D1A7D98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7EA-43FF-4509-B071-0F4E454E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96B-C79C-4F58-8EB0-72C3B6BA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41D-F6BA-4AA3-A704-F0A5B059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E59-54EB-4CF5-8EDE-3C0E76A4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643-393F-48C5-8B3F-61868054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BE12-B8B7-4339-8658-F03016CCA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38080" y="0"/>
            <a:ext cx="116064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4"/>
          <p:cNvGraphicFramePr/>
          <p:nvPr/>
        </p:nvGraphicFramePr>
        <p:xfrm>
          <a:off x="7391520" y="0"/>
          <a:ext cx="123984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0"/>
                    <a:ext cx="1239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Subtitle 2"/>
          <p:cNvSpPr/>
          <p:nvPr/>
        </p:nvSpPr>
        <p:spPr>
          <a:xfrm>
            <a:off x="6172200" y="4038480"/>
            <a:ext cx="2743200" cy="228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5373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r. Solomon Menges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ddisu Ab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olomon Abey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antahun  Dere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ay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I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Object 3"/>
          <p:cNvGraphicFramePr/>
          <p:nvPr/>
        </p:nvGraphicFramePr>
        <p:xfrm>
          <a:off x="7391520" y="0"/>
          <a:ext cx="1239840" cy="1219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0"/>
                    <a:ext cx="1239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1"/>
          <p:cNvSpPr/>
          <p:nvPr/>
        </p:nvSpPr>
        <p:spPr>
          <a:xfrm>
            <a:off x="304920" y="1297800"/>
            <a:ext cx="8229600" cy="8254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cation of TechFit for Prioritization of Feed Technologies in Smallholder Beef Produc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ch farmers’ context to techn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295280"/>
          <a:ext cx="8229600" cy="4424400"/>
        </p:xfrm>
        <a:graphic>
          <a:graphicData uri="http://schemas.openxmlformats.org/drawingml/2006/table">
            <a:tbl>
              <a:tblPr/>
              <a:tblGrid>
                <a:gridCol w="2666880"/>
                <a:gridCol w="1067040"/>
                <a:gridCol w="2590560"/>
                <a:gridCol w="19051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e for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chnology attribu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e for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ntext attribu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8" name="TextBox 5"/>
          <p:cNvSpPr/>
          <p:nvPr/>
        </p:nvSpPr>
        <p:spPr>
          <a:xfrm>
            <a:off x="457200" y="5943600"/>
            <a:ext cx="8077320" cy="6426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echnology demands land =&gt; low score for 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farmers do not have or very small land holding =&gt; Low score for 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tential technologies were filtered using farmers context and technology attribute scor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eck list was used to collect information about the context attributes of farmers and the farmers gave scores to the context attribu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llected data were fitted to TechFit template to rank the technologies.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Ref: Excel She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ed technologies were evaluated based on 5 major attributes: land, labor, credit, input delivery system, and farmer ski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04920" y="108036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II. TECHNOLOGY FILTER (Technology options to address quantity, quality, seasonality issu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re-filter available Technologies based on context relevance and impact potent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Context relevance (score 1-6; low-high) X Impact potential (score 1-6; low-high) = Total score (context X impac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8A8B-9CF7-4456-B875-D85C93BD6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tle 1"/>
          <p:cNvSpPr/>
          <p:nvPr/>
        </p:nvSpPr>
        <p:spPr>
          <a:xfrm>
            <a:off x="1295280" y="1371600"/>
            <a:ext cx="601992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and discu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tle 3"/>
          <p:cNvSpPr/>
          <p:nvPr/>
        </p:nvSpPr>
        <p:spPr>
          <a:xfrm>
            <a:off x="1905120" y="2666880"/>
            <a:ext cx="4267080" cy="6098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chFit-Beef Value Ch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04920" y="380880"/>
          <a:ext cx="8381880" cy="5888160"/>
        </p:xfrm>
        <a:graphic>
          <a:graphicData uri="http://schemas.openxmlformats.org/drawingml/2006/table">
            <a:tbl>
              <a:tblPr/>
              <a:tblGrid>
                <a:gridCol w="447480"/>
                <a:gridCol w="1744560"/>
                <a:gridCol w="841680"/>
                <a:gridCol w="860400"/>
                <a:gridCol w="1234800"/>
                <a:gridCol w="1233720"/>
                <a:gridCol w="1009440"/>
                <a:gridCol w="1009800"/>
              </a:tblGrid>
              <a:tr h="979560">
                <a:tc rowSpan="2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y o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-select the obvious (5-6)                         based on context relevance and impact potential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cope for improvement of attributes 1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ext relevance (score 1-6; low-high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act potential                       (score 1-6; low-hig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 (context X impa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core 1-5           (1 for less and 5 for mo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rovements of crop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chine chopping of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nd chopping of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nerous feeding of C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nerous feeding of C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ing of home grown legume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ing of bought in legume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y options to address feed problem (list of technologi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short listing first 3-4 technologies based on the Rank, go for cost benefit analysis of the selected 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-fil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ext relevance X Impact potential sco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st benefi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the technology co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the technology deliv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worthwhi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09480" y="990720"/>
          <a:ext cx="7848720" cy="4572000"/>
        </p:xfrm>
        <a:graphic>
          <a:graphicData uri="http://schemas.openxmlformats.org/drawingml/2006/table">
            <a:tbl>
              <a:tblPr/>
              <a:tblGrid>
                <a:gridCol w="1570320"/>
                <a:gridCol w="1569960"/>
                <a:gridCol w="1568520"/>
                <a:gridCol w="1569960"/>
                <a:gridCol w="1569960"/>
              </a:tblGrid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57200" y="1219320"/>
          <a:ext cx="8153280" cy="2628720"/>
        </p:xfrm>
        <a:graphic>
          <a:graphicData uri="http://schemas.openxmlformats.org/drawingml/2006/table">
            <a:tbl>
              <a:tblPr/>
              <a:tblGrid>
                <a:gridCol w="560520"/>
                <a:gridCol w="3325680"/>
                <a:gridCol w="1219320"/>
                <a:gridCol w="1523880"/>
                <a:gridCol w="762120"/>
                <a:gridCol w="761760"/>
              </a:tblGrid>
              <a:tr h="84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 (context X impac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ope for improvement of attrib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1219320"/>
          <a:ext cx="8153280" cy="2628720"/>
        </p:xfrm>
        <a:graphic>
          <a:graphicData uri="http://schemas.openxmlformats.org/drawingml/2006/table">
            <a:tbl>
              <a:tblPr/>
              <a:tblGrid>
                <a:gridCol w="560520"/>
                <a:gridCol w="3325680"/>
                <a:gridCol w="1219320"/>
                <a:gridCol w="1523880"/>
                <a:gridCol w="762120"/>
                <a:gridCol w="761760"/>
              </a:tblGrid>
              <a:tr h="84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 (context X impac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ope for improvement of attrib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523D-1F4D-448F-9DD9-17AE1212E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1066680"/>
          <a:ext cx="8077320" cy="5181840"/>
        </p:xfrm>
        <a:graphic>
          <a:graphicData uri="http://schemas.openxmlformats.org/drawingml/2006/table">
            <a:tbl>
              <a:tblPr/>
              <a:tblGrid>
                <a:gridCol w="533520"/>
                <a:gridCol w="1295280"/>
                <a:gridCol w="1371600"/>
                <a:gridCol w="1752840"/>
                <a:gridCol w="1676160"/>
                <a:gridCol w="1447920"/>
              </a:tblGrid>
              <a:tr h="22860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re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si Neg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ch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Kurif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i-Wey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Kersa-Il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d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 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pping Sea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g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ps gro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f, wheat, maize, barley, beans and p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f, wheat, maize, barley, be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f, wheat, maize, barl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f, wheat, maize, pot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dder crops Gro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ucaena, Napier grass, Sesbania sesban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pier grass, fodder beet, alfalfa and Sesbania sesb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vest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tle, sheep, goats, donkey and poul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tle, sheep, goats, donkey, Horse  and poul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tle, sheep, goats, donkey, Horse  and poul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tle, sheep, goats, poultry donkey a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 of 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icul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vest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3"/>
          <p:cNvSpPr/>
          <p:nvPr/>
        </p:nvSpPr>
        <p:spPr>
          <a:xfrm>
            <a:off x="2438280" y="457200"/>
            <a:ext cx="495324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verview of the production syste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57200" y="1219320"/>
          <a:ext cx="8153280" cy="2628720"/>
        </p:xfrm>
        <a:graphic>
          <a:graphicData uri="http://schemas.openxmlformats.org/drawingml/2006/table">
            <a:tbl>
              <a:tblPr/>
              <a:tblGrid>
                <a:gridCol w="560520"/>
                <a:gridCol w="3325680"/>
                <a:gridCol w="1219320"/>
                <a:gridCol w="1523880"/>
                <a:gridCol w="762120"/>
                <a:gridCol w="761760"/>
              </a:tblGrid>
              <a:tr h="84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 (context X impac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ope for improvement of attrib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4419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ble 2 cont’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04920" y="380880"/>
          <a:ext cx="8381880" cy="5888160"/>
        </p:xfrm>
        <a:graphic>
          <a:graphicData uri="http://schemas.openxmlformats.org/drawingml/2006/table">
            <a:tbl>
              <a:tblPr/>
              <a:tblGrid>
                <a:gridCol w="447480"/>
                <a:gridCol w="1744560"/>
                <a:gridCol w="841680"/>
                <a:gridCol w="860400"/>
                <a:gridCol w="1234800"/>
                <a:gridCol w="1233720"/>
                <a:gridCol w="1009440"/>
                <a:gridCol w="1009800"/>
              </a:tblGrid>
              <a:tr h="979560">
                <a:tc rowSpan="2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y o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-select the obvious (5-6)                         based on context relevance and impact potential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cope for improvement of attributes 1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ext relevance (score 1-6; low-high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act potential                       (score 1-6; low-hig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 (context X impa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core 1-5           (1 for less and 5 for mo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rovements of crop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chine chopping of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nd chopping of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nerous feeding of C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nerous feeding of C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ing of home grown legume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ing of bought in legume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ntify promising feed technologies that are likely to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understanding of why and why not technologies work or do not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ontent Placeholder 2"/>
          <p:cNvSpPr/>
          <p:nvPr/>
        </p:nvSpPr>
        <p:spPr>
          <a:xfrm>
            <a:off x="3808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Introd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Adama  and Arsi Negele Are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eed scarcity is a major problem that limits animal productivity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mprovement in livestock productivity can be achieved by alleviating feed constraints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ssu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ed a constra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vention nee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search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op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ket of technologies avail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m is to select the best bet feed technologies for particular site/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selected villages of in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Arsi and Adama Distric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4572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What is Tech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tool used to prioritize of feed technologies 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ite-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Fit is used to filter among the available technologies and prioritize best bet technologies from the available 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combining scores of technology and context attributes to arrive at an overall score for how a technology is likely to fit a particular con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he tool it is still under refinement, for mor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METHOD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560" y="1413000"/>
            <a:ext cx="3097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33cc"/>
                </a:solidFill>
                <a:latin typeface="Calibri"/>
              </a:rPr>
              <a:t>Adama Distr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b05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cc"/>
                </a:solidFill>
                <a:latin typeface="Calibri"/>
              </a:rPr>
              <a:t>Kech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b05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cc"/>
                </a:solidFill>
                <a:latin typeface="Calibri"/>
              </a:rPr>
              <a:t>Wonji Kurif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33cc"/>
                </a:solidFill>
                <a:latin typeface="Calibri"/>
              </a:rPr>
              <a:t>Arsi Negele Distr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b05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33cc"/>
                </a:solidFill>
                <a:latin typeface="Calibri"/>
              </a:rPr>
              <a:t>Ali Way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b05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33cc"/>
                </a:solidFill>
                <a:latin typeface="Calibri"/>
              </a:rPr>
              <a:t>Kersa Ila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33cc"/>
                </a:solidFill>
                <a:latin typeface="Calibri"/>
              </a:rPr>
              <a:t>Both Districts located in the Rift Vall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635280" y="1125360"/>
            <a:ext cx="5364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428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4000" y="1219320"/>
            <a:ext cx="88203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am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Arsi Nege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chema     Wonji Kuriftu                            Ali Weyo    Kersa Ilala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ximity to woreda capit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sence of Smallholder beef fattening activ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3564000" y="2060640"/>
            <a:ext cx="1655640" cy="151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e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5"/>
          <p:cNvCxnSpPr/>
          <p:nvPr/>
        </p:nvCxnSpPr>
        <p:spPr>
          <a:xfrm flipH="1">
            <a:off x="826560" y="1700280"/>
            <a:ext cx="650160" cy="9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Straight Arrow Connector 6"/>
          <p:cNvCxnSpPr/>
          <p:nvPr/>
        </p:nvCxnSpPr>
        <p:spPr>
          <a:xfrm>
            <a:off x="1547640" y="1700280"/>
            <a:ext cx="721440" cy="9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Straight Arrow Connector 8"/>
          <p:cNvCxnSpPr/>
          <p:nvPr/>
        </p:nvCxnSpPr>
        <p:spPr>
          <a:xfrm flipH="1">
            <a:off x="5866920" y="1700280"/>
            <a:ext cx="65016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9"/>
          <p:cNvCxnSpPr/>
          <p:nvPr/>
        </p:nvCxnSpPr>
        <p:spPr>
          <a:xfrm>
            <a:off x="6659280" y="1699920"/>
            <a:ext cx="649800" cy="865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Rounded Rectangle 15"/>
          <p:cNvSpPr/>
          <p:nvPr/>
        </p:nvSpPr>
        <p:spPr>
          <a:xfrm>
            <a:off x="179280" y="3860640"/>
            <a:ext cx="2808360" cy="64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Calibri"/>
              </a:rPr>
              <a:t>Selection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09480" y="1219320"/>
          <a:ext cx="7925040" cy="3028680"/>
        </p:xfrm>
        <a:graphic>
          <a:graphicData uri="http://schemas.openxmlformats.org/drawingml/2006/table">
            <a:tbl>
              <a:tblPr/>
              <a:tblGrid>
                <a:gridCol w="1524240"/>
                <a:gridCol w="1228680"/>
                <a:gridCol w="1293840"/>
                <a:gridCol w="1292040"/>
                <a:gridCol w="1519200"/>
                <a:gridCol w="1067040"/>
              </a:tblGrid>
              <a:tr h="45720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of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re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si Nege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ch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rif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i-We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rsa-Il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Rectangle 1"/>
          <p:cNvSpPr/>
          <p:nvPr/>
        </p:nvSpPr>
        <p:spPr>
          <a:xfrm>
            <a:off x="1600200" y="4575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Numbers of participants from all kebel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5" descr="C:\Documents and Settings\Addisu\Desktop\ILRI-Consultancy\Pictures of Survey-Adama &amp; Arsi-Negele-15-4-2012\Arsi-Negele\DSC02492.JPG"/>
          <p:cNvPicPr/>
          <p:nvPr/>
        </p:nvPicPr>
        <p:blipFill>
          <a:blip r:embed="rId1"/>
          <a:stretch/>
        </p:blipFill>
        <p:spPr>
          <a:xfrm>
            <a:off x="6095880" y="1066680"/>
            <a:ext cx="27432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6"/>
          <p:cNvGrpSpPr/>
          <p:nvPr/>
        </p:nvGrpSpPr>
        <p:grpSpPr>
          <a:xfrm>
            <a:off x="380880" y="1066680"/>
            <a:ext cx="8229600" cy="5241960"/>
            <a:chOff x="380880" y="1066680"/>
            <a:chExt cx="8229600" cy="5241960"/>
          </a:xfrm>
        </p:grpSpPr>
        <p:sp>
          <p:nvSpPr>
            <p:cNvPr id="75" name="Rectangle 7"/>
            <p:cNvSpPr/>
            <p:nvPr/>
          </p:nvSpPr>
          <p:spPr>
            <a:xfrm>
              <a:off x="380880" y="1218960"/>
              <a:ext cx="8229600" cy="50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2133360" y="1066680"/>
              <a:ext cx="4253040" cy="1752480"/>
            </a:xfrm>
            <a:prstGeom prst="pie">
              <a:avLst/>
            </a:prstGeom>
            <a:solidFill>
              <a:srgbClr val="b7dee8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559800" tIns="193320" bIns="19332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roup discussion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ith farmers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echema 20 (15 men and 5 wome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uriftu 20 (11 men and 9 wome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liweyo 22 (15 men and 7 wome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ersaIlala 20 (15 men and 5 wome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380880" y="1218960"/>
              <a:ext cx="1778040" cy="1395360"/>
            </a:xfrm>
            <a:prstGeom prst="pie">
              <a:avLst/>
            </a:prstGeom>
            <a:solidFill>
              <a:srgbClr val="31859c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360" rIns="144360" tIns="106200" bIns="1062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PR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Exerci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2209680" y="2819160"/>
              <a:ext cx="4254480" cy="1871640"/>
            </a:xfrm>
            <a:prstGeom prst="pie">
              <a:avLst/>
            </a:prstGeom>
            <a:solidFill>
              <a:srgbClr val="b7dee8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40" rIns="714240" tIns="246240" bIns="2462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Scoring of the 5 tributes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Work with the farmers</a:t>
              </a: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380880" y="2997000"/>
              <a:ext cx="1780920" cy="1396800"/>
            </a:xfrm>
            <a:prstGeom prst="pie">
              <a:avLst/>
            </a:prstGeom>
            <a:solidFill>
              <a:srgbClr val="31859c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360" rIns="144360" tIns="106200" bIns="1062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Assessment of the 5 tribut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2223720" y="4869000"/>
              <a:ext cx="4071960" cy="1380960"/>
            </a:xfrm>
            <a:prstGeom prst="pie">
              <a:avLst/>
            </a:prstGeom>
            <a:solidFill>
              <a:srgbClr val="b7dee8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40" rIns="530280" tIns="184680" bIns="18468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Follow the steps given in the Techfit technology filtering excel sheet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Ideas for </a:t>
              </a: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Interventions select technologies based on score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>
              <a:off x="380880" y="4869000"/>
              <a:ext cx="1782720" cy="1320840"/>
            </a:xfrm>
            <a:prstGeom prst="pie">
              <a:avLst/>
            </a:prstGeom>
            <a:solidFill>
              <a:srgbClr val="31859c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0760" rIns="140760" tIns="102600" bIns="1026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Filtering of Technologi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7A8D-28A2-4154-BB95-7270A10CC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608600" cy="6332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ethodology of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he TechFit To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4" descr="C:\Documents and Settings\Addisu\Desktop\ILRI-Consultancy\Pictures of Survey-Adama &amp; Arsi-Negele-15-4-2012\Adama-Farmers\DSC02225.JPG"/>
          <p:cNvPicPr/>
          <p:nvPr/>
        </p:nvPicPr>
        <p:blipFill>
          <a:blip r:embed="rId2"/>
          <a:stretch/>
        </p:blipFill>
        <p:spPr>
          <a:xfrm>
            <a:off x="6324480" y="3124080"/>
            <a:ext cx="2590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0880" y="838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liminary study was conducted to score the context of farmers vis a vis land, labor, availability of cash, input delivery system, and skill of the farmer for technology adoption and demand of the technology for the above listed attribu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6T22:16:11Z</dcterms:created>
  <dc:creator>User</dc:creator>
  <dc:description/>
  <dc:language>en-US</dc:language>
  <cp:lastModifiedBy>PBallantyne</cp:lastModifiedBy>
  <dcterms:modified xsi:type="dcterms:W3CDTF">2012-06-04T17:51:31Z</dcterms:modified>
  <cp:revision>59</cp:revision>
  <dc:subject/>
  <dc:title>Slide 1</dc:title>
</cp:coreProperties>
</file>